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E2CE-21D5-4926-933B-B0CD2E75D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3D6D-7A23-4592-B8CB-481313312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E14-195C-4DD6-84D1-DF0336DE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F20-92DE-41FB-8098-5C7CF11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EB6-BCAA-4528-A23A-886A04B2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D5C-73EF-4D53-AFB3-B6CB4504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00B-4DED-4376-A7EF-E678E28A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E2F-7C50-4DA6-AD5A-79F5D72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09A-1267-4609-B732-F474EEF9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2FE-143A-4620-BE67-044A837C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2FE-A072-4DED-9048-F074F7E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DD0-B849-47BC-AF47-8CBC537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7B6-1DD5-42E8-84D6-1D577E1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8B0-C40F-4D1C-AACE-053FC536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7471-C515-490D-A73F-81096DFA6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piece of blank paper to create your own “Piece of the Pie” foldab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Langston Hugh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use pgs. 898-900 &amp; write facts from each par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Before You Rea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define speaker, social perspective, archetypal perspective, biographical perspective –pg9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Summa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choose one of Hughes’ poems and write a one paragraph interpretation or a summary; include at least one literary devi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Critical Questions </a:t>
                      </a:r>
                      <a:r>
                        <a:rPr b="0" lang="en-US" sz="14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(answer questions for one of Hughes’ poem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>
            <a:off x="3048120" y="213372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362320" y="29728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Langston Hug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59:17Z</dcterms:created>
  <dc:creator>nvasquez</dc:creator>
  <dc:description/>
  <dc:language>en-US</dc:language>
  <cp:lastModifiedBy>Nvasquez</cp:lastModifiedBy>
  <dcterms:modified xsi:type="dcterms:W3CDTF">2010-11-08T15:10:01Z</dcterms:modified>
  <cp:revision>5</cp:revision>
  <dc:subject/>
  <dc:title>Pearson Unit 4</dc:title>
</cp:coreProperties>
</file>